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CCE-FAF4-4269-A058-A8E3D0DA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D25-1A9F-490B-ABEA-F4A1171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4CC-68A8-4F7D-9CDC-DBCDCBBD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A22-868E-44F6-B5AA-7209DD6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96D-69C6-48E0-8D3A-D9EFE8D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C03-86DB-4478-8BD8-15D106F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5BA-AA92-4A23-8B5B-93076412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BEA-B7A1-4D51-AC8F-0194696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57B-4B28-4CF3-B17F-83D1BC1F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B62-AE08-4687-A9A5-3EC814B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457-6439-4A4D-86D7-E1BE59F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676-E3BC-4CF1-9AD6-33A8D4B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916-97F0-4079-87B8-701FBFD7F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aves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Elain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GreenLeaves.jpg"/>
          <p:cNvPicPr/>
          <p:nvPr/>
        </p:nvPicPr>
        <p:blipFill>
          <a:blip r:embed="rId1"/>
          <a:stretch/>
        </p:blipFill>
        <p:spPr>
          <a:xfrm>
            <a:off x="281160" y="987480"/>
            <a:ext cx="2382840" cy="44496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10" descr="Lilac_leaves.jpg"/>
          <p:cNvPicPr/>
          <p:nvPr/>
        </p:nvPicPr>
        <p:blipFill>
          <a:blip r:embed="rId2"/>
          <a:stretch/>
        </p:blipFill>
        <p:spPr>
          <a:xfrm>
            <a:off x="3255840" y="2054160"/>
            <a:ext cx="2754360" cy="4303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2743200" y="47242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s are the food making factories of green pla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s come in many shapes and siz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re made of a single leaf blade connected by a petiole to the ste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13" descr="kratom_leaves2.jpg"/>
          <p:cNvPicPr/>
          <p:nvPr/>
        </p:nvPicPr>
        <p:blipFill>
          <a:blip r:embed="rId3"/>
          <a:stretch/>
        </p:blipFill>
        <p:spPr>
          <a:xfrm>
            <a:off x="6303960" y="1365120"/>
            <a:ext cx="2657520" cy="49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4:44:48Z</dcterms:created>
  <dc:creator>veshelman</dc:creator>
  <dc:description/>
  <dc:language>en-US</dc:language>
  <cp:lastModifiedBy>veshelman</cp:lastModifiedBy>
  <dcterms:modified xsi:type="dcterms:W3CDTF">2009-04-18T14:45:52Z</dcterms:modified>
  <cp:revision>1</cp:revision>
  <dc:subject/>
  <dc:title>Leaves by Elaine </dc:title>
</cp:coreProperties>
</file>